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17B1-DD2E-4E7C-A3B2-B136F2812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BCBD-B1B4-4D11-8404-2F69F6B3F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643-8DA9-44E0-8EAB-0C9379E6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13A-D8F0-4F22-906A-13657636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9A4D7-5618-48B4-8E1D-2B605B0F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7695D-1619-4077-B43A-C2CC0E98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F3D9F-A3D3-467A-A997-1A6988EF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B4F39-E68A-47C4-97D9-F9959B9A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DEDF2-9FD5-444F-BE30-B940A065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7B369-1C1B-4775-AAA5-BA96A73D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92D30-B4BC-40B5-9B05-2B78FF94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D4EA9-A6B0-4375-BD60-F72700A7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D7B0A-8156-4FA8-85B2-4E21335C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9E5D0-64D3-45D0-8FF0-5CA2F34A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125C-9877-4B9E-A72F-6AD19A31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59717-76E6-4A31-B0FD-CF4AD0A8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8122D-AFD5-428C-B514-67D11A38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FE69E-837E-4B93-9F10-44B1ACE6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83451-CA04-4EDB-9E88-1913667B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55D35-ACF0-4BDD-B658-499003AA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50B0F-E9D4-45A4-B080-A3F7ECA2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6A082-356B-468C-AD14-44279BE3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65868-C332-4E96-B26C-F46AFD8D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E123D-10CA-49B5-95BD-5726F82D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F6A34-A7F9-453D-9780-F2FA0929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B62E-78F0-498D-9FAA-0D5AA942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D243C-9B5E-4A10-80FE-B9DED185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FD241-E955-451B-B432-8F13964C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2DAF8-7EF8-41FA-864F-35543BEC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C18D7-A9F3-41CC-AFE7-3DF1B459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F713E-FFE6-4E85-BF61-179881A0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FAE5D-C713-480F-8745-DBD3765D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66C8E-6018-49F8-B6F1-9465A0A0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FA781-226B-4FEE-867A-298A4806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A5378-F5F6-4F2B-A834-32B949FE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57B16-256F-440E-9B7A-7500CB08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4341-A39C-4AF7-9E35-C2C66F0D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DCB67-071D-4149-9F7A-D2B40C3A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9B4CF-0061-4BB2-B26E-5205D979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8B721-201C-478C-8FB6-ACB8E449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D6C82-6B1F-4452-99DA-12533164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CB0C1-D64F-41EA-9349-B88E182B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22168-4407-4EC5-9DCC-56B96D9D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326F4-9955-4DA1-AE32-A2FD8B83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2BA52-BF3E-4C36-86C7-6D12A22F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EA275-B521-4E3B-9576-1D4D14F3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5589D-6433-433A-B7E8-C9B46290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D115-6862-435B-BA38-372679B1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B3EFB-76DE-4ABE-A31A-8C442564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15E26-8CBF-405C-8FB6-45115F74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CFDE0-6EF3-4675-AD1F-B414A291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C6D8F-59CC-44AE-BAB1-D0462FB4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40A42-1B22-46C8-95C6-9503D4F3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5870F1-C0B2-48EC-838D-9E6B2D95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9CF36-4620-4043-8C1D-C50DB0A6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637EF-EA0D-4DB8-940E-CAAF4BC0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A1C70-14C1-40FF-A52E-A6894297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02B37C-780E-4C97-9C6E-70F0E07B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30D5-ABA3-4550-9C6A-7480C5F3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08C54-8B9A-4B6F-9F88-90EE7C2C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439F4F-32E4-43CE-9A2C-0130DEE9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296C2-C311-4B5B-80D5-FE41E9C7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42E6C-3AE4-4013-9E5E-F369E9D3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ADB7A-D0A8-45B4-A63E-B070B324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7538B-141D-477C-A944-9D421202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3F38E-6CF7-4982-B020-FBB51D2B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4D1B-A96A-45E4-BACF-4F060B92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4C21-1A1A-42B0-82BF-8ED77675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6726-BEB5-4455-9E80-060C8287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17AD-C853-43B2-BD95-0362A66B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C65-188C-44EC-805E-43B4478D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1E1E-C16B-402C-AAE7-B93320BC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8AE9-45C3-4688-BFAF-2F9E2A2B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3A5B-9565-48AB-82FF-82DB8115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2A5E-5669-4D90-8FB0-040B7F60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2B4B-6735-48EC-8F57-DBA3B818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E2A3F-05DE-44D6-BDC2-4051FA10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2580B-78C1-42C8-B1D4-F558C51A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38011-40BA-4335-8D2F-2A9FEFC5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1F317-77BD-4875-9EF1-F9E97342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8F5E5-ABF7-4E9D-940D-FC149579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6A8-F7E7-416A-B8BE-65F6F21C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63907-D600-4529-9567-6FCDB634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56217-845C-4F60-9635-F1A31B05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7AF52-91EB-4A51-8720-7F42A751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DEC14-1880-4DB3-8488-FCA699CF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DED86-5811-4FE5-9410-FEFC878E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0BA73-0679-462C-B38E-D6553B1F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5BAB0-D933-4131-B8B2-4113ABC7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9424A-602D-4282-B072-84E7113A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30EC6-8EAF-43D1-893A-31EF5227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32EE7-A447-4748-A2E2-8571836D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6F7A-0A01-4A5A-9D7B-F3FFEBA6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EBB42-94D6-44A0-8F80-4D8CB1D0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D0EC6-69B3-45F9-835B-458E88B9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ECD34-854A-4A6B-B79C-51076869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850A6-79CB-4DCE-87BD-D56E4420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AF299-57D0-4DA2-AF24-76D1DFEB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F175D-AE12-4A79-9824-306FDE34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1952E-17E3-46B1-AC3B-02D9BCC5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AF5C9-DAAD-4431-B044-E1066FA7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10375-F87F-4DB4-8CF2-21F6EA0A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5E737-39D7-4D47-AD42-074675CA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FF53-6514-45C2-9C03-FF140702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36F2A-5028-476A-8C11-3544C2E7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F4602-B2D5-413F-BA13-F812901F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8AB7B-18A3-4A01-89AA-7C1DAD1C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608FF-5977-4766-B6E8-DB193136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313C2-EE02-45BF-8D61-C9B5823D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47D0B-07E6-4B90-9933-BBC81DC7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01636-AD9F-44F7-A783-DE8005AC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15BEE-0B77-4885-8E1B-430365F4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CE474-1BB7-41FA-95B5-FB75F8B7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5A020-6B25-4117-BB8E-A1FA847A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98A0-196D-469E-8AEE-E0C31E31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2B5B5-86E5-4B88-8CA5-917736AC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20D19-F665-4FD1-ACDA-C4926A24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24082-E541-433A-A2FF-7724BC5C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E8C95-F052-4EB8-B876-57F63215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FF783-3DD9-44D7-B40A-5A01CD54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79311-0B8C-47A7-87D6-8376F20D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241E3-855A-413A-A783-85F65010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C09F2-A256-46BD-91F6-808E3F6C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33ECC-5E3D-4ABF-BACB-AF867F83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F4388-B099-4A0D-9E65-60C70E39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0EF-7369-4D77-8335-8D4AB722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8FF6A-61F2-4AF7-9C9C-6CFF41D3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59FC0-00BD-48D1-944F-FBAC0F33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D1D9F-9EE2-49E1-B08E-82546468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84F53-A889-4F6A-8E0D-9AB6F0D9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BD580-75E2-4BAF-9426-4F64BEAC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88A3C-7106-496D-8CB2-DC868709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437AB-1416-41B7-88F8-CF1F3DCE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11C14-8591-4A27-B40B-A043B097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40FA8-F478-483F-AB7C-25DFD9C6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11092-0960-4AF7-ABF5-30012B9E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7B3-193B-4F49-A1B0-519B6DC9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D05B6-13E6-4E2B-B704-8DF06213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4E3F3-F7E6-4D91-A5C0-297F45F1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2E6C0-F5A7-466C-A7D1-909F09A4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A3B13-5804-4DDB-A48B-048AF387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4386C-A9EC-4175-9A9F-60B5497C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1D9C3-7AF4-45DD-9AD7-DE54DC85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19BE7-9A87-48D1-89F5-C638AF1D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4082A-928D-4659-B1B6-E2C50DF7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56886-E802-4CAE-94A2-AD04FCEB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84194-8B17-400B-99A2-1BDCDA8B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04E-0DCC-4F2A-B454-58D5CD5D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BA558-38B6-47C6-8F85-886A000B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090AE-9FA0-4EF7-9092-1FC270E7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C2EE2-A4A0-4AD1-8949-FA842B6C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B418C-432C-4D9D-9B86-9FCD61CF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0971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50626-7146-4B0B-8DDE-9BAA9924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0971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869A2-947B-4495-AD64-CA2694D0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0971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CEC46-D2C2-45F1-99EA-776DC037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68550-5DA0-4682-9A93-F60FEF9E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38979-F713-4BC3-8F88-6EB2DFD4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732E6-6863-4707-B548-E0E9688D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F5D5-CFC0-4344-B2D5-8E222646413A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6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425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9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0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AC76-6BDB-46E0-8BDD-F61D95C4BA22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472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1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2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3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8F2D-A0A3-4C2F-A2DD-0BCCEDFEF560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519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8130-4636-439D-B909-C164B9B50599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566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7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38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9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324E-B369-4855-B8D9-0042781AD9D9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6"/>
          <p:cNvSpPr/>
          <p:nvPr/>
        </p:nvSpPr>
        <p:spPr>
          <a:xfrm>
            <a:off x="457200" y="228600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7"/>
          <p:cNvGrpSpPr/>
          <p:nvPr/>
        </p:nvGrpSpPr>
        <p:grpSpPr>
          <a:xfrm>
            <a:off x="501480" y="2324160"/>
            <a:ext cx="8209080" cy="1193760"/>
            <a:chOff x="501480" y="2324160"/>
            <a:chExt cx="8209080" cy="1193760"/>
          </a:xfrm>
        </p:grpSpPr>
        <p:sp>
          <p:nvSpPr>
            <p:cNvPr id="49" name="AutoShape 8"/>
            <p:cNvSpPr/>
            <p:nvPr/>
          </p:nvSpPr>
          <p:spPr>
            <a:xfrm>
              <a:off x="501480" y="232416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649440" y="3200400"/>
              <a:ext cx="7913520" cy="26208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685800" y="2362320"/>
              <a:ext cx="7848720" cy="23472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85800" y="2589840"/>
              <a:ext cx="7848720" cy="1522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-36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AC41-DABE-4C99-9424-DD78348CBB3E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96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63A4-01C6-4A5B-B037-1EC0FE7D0A1A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143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97A4-5FFF-4614-B6B2-3DC17D3B5006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190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2E4B-45EC-4730-9B28-19FF3B93EC33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237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C890-F0E0-432F-B205-DFE9F75B8D60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284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4DD6-7463-48B1-B322-020A5593B2E6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331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FC9D-CCD1-493E-B0A0-0A35FA9EBD40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AutoShape 6"/>
          <p:cNvSpPr/>
          <p:nvPr/>
        </p:nvSpPr>
        <p:spPr>
          <a:xfrm>
            <a:off x="457200" y="304920"/>
            <a:ext cx="8305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b87f2"/>
              </a:gs>
              <a:gs pos="100000">
                <a:srgbClr val="243661"/>
              </a:gs>
            </a:gsLst>
            <a:lin ang="5400000"/>
          </a:gradFill>
          <a:ln w="0">
            <a:noFill/>
          </a:ln>
          <a:effectLst>
            <a:outerShdw dist="115171" dir="502314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7"/>
          <p:cNvGrpSpPr/>
          <p:nvPr/>
        </p:nvGrpSpPr>
        <p:grpSpPr>
          <a:xfrm>
            <a:off x="501480" y="343080"/>
            <a:ext cx="8209080" cy="1193760"/>
            <a:chOff x="501480" y="343080"/>
            <a:chExt cx="8209080" cy="1193760"/>
          </a:xfrm>
        </p:grpSpPr>
        <p:sp>
          <p:nvSpPr>
            <p:cNvPr id="378" name="AutoShape 8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9"/>
            <p:cNvSpPr/>
            <p:nvPr/>
          </p:nvSpPr>
          <p:spPr>
            <a:xfrm>
              <a:off x="649440" y="1219320"/>
              <a:ext cx="7913520" cy="261720"/>
            </a:xfrm>
            <a:custGeom>
              <a:avLst/>
              <a:gdLst>
                <a:gd name="textAreaLeft" fmla="*/ 0 w 7913520"/>
                <a:gd name="textAreaRight" fmla="*/ 7913880 w 791352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4985" h="213">
                  <a:moveTo>
                    <a:pt x="202" y="213"/>
                  </a:moveTo>
                  <a:cubicBezTo>
                    <a:pt x="132" y="213"/>
                    <a:pt x="0" y="113"/>
                    <a:pt x="0" y="0"/>
                  </a:cubicBezTo>
                  <a:lnTo>
                    <a:pt x="527" y="1"/>
                  </a:lnTo>
                  <a:lnTo>
                    <a:pt x="4985" y="1"/>
                  </a:lnTo>
                  <a:cubicBezTo>
                    <a:pt x="4985" y="114"/>
                    <a:pt x="4863" y="213"/>
                    <a:pt x="4793" y="213"/>
                  </a:cubicBezTo>
                  <a:lnTo>
                    <a:pt x="202" y="213"/>
                  </a:lnTo>
                  <a:close/>
                </a:path>
              </a:pathLst>
            </a:custGeom>
            <a:gradFill rotWithShape="0">
              <a:gsLst>
                <a:gs pos="0">
                  <a:srgbClr val="86a7f5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10"/>
            <p:cNvSpPr/>
            <p:nvPr/>
          </p:nvSpPr>
          <p:spPr>
            <a:xfrm>
              <a:off x="685800" y="380880"/>
              <a:ext cx="7848720" cy="23508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a1baf8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11"/>
            <p:cNvSpPr/>
            <p:nvPr/>
          </p:nvSpPr>
          <p:spPr>
            <a:xfrm flipV="1">
              <a:off x="685800" y="609120"/>
              <a:ext cx="7848720" cy="152640"/>
            </a:xfrm>
            <a:custGeom>
              <a:avLst/>
              <a:gdLst>
                <a:gd name="textAreaLeft" fmla="*/ 0 w 7848720"/>
                <a:gd name="textAreaRight" fmla="*/ 7849080 w 7848720"/>
                <a:gd name="textAreaTop" fmla="*/ 360 h 152640"/>
                <a:gd name="textAreaBottom" fmla="*/ 153360 h 152640"/>
              </a:gdLst>
              <a:ahLst/>
              <a:rect l="textAreaLeft" t="textAreaTop" r="textAreaRight" b="textAreaBottom"/>
              <a:pathLst>
                <a:path w="4971" h="148">
                  <a:moveTo>
                    <a:pt x="220" y="0"/>
                  </a:moveTo>
                  <a:cubicBezTo>
                    <a:pt x="152" y="0"/>
                    <a:pt x="0" y="65"/>
                    <a:pt x="0" y="146"/>
                  </a:cubicBezTo>
                  <a:lnTo>
                    <a:pt x="541" y="148"/>
                  </a:lnTo>
                  <a:lnTo>
                    <a:pt x="4971" y="146"/>
                  </a:lnTo>
                  <a:cubicBezTo>
                    <a:pt x="4971" y="65"/>
                    <a:pt x="4794" y="0"/>
                    <a:pt x="4726" y="0"/>
                  </a:cubicBezTo>
                  <a:lnTo>
                    <a:pt x="22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955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151920" y="6324120"/>
            <a:ext cx="1219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1447920" y="6324120"/>
            <a:ext cx="6324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7848360" y="6324120"/>
            <a:ext cx="1143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8D90-26A8-4472-9095-BF58C9B320C3}" type="slidenum">
              <a:rPr b="0" lang="en-US" sz="1400" spc="-1" strike="noStrike">
                <a:solidFill>
                  <a:srgbClr val="5b87f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Vis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brary Media Center serves as an integral part of the schoo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educational program and is the information hub of the scho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students will acquire 21st century skills(multi-literacy skills) to become prepared to learn, work, and live in a digital, knowledge-based global soc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un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ool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tudent Eng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brary can engage students in learning in man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brary physical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brar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brary Wiki/Webp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ent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ibrary Physical Lay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, comfortable and inv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lent/independent study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aborative/peer-to-peer learning spaces to create opportunities for interaction between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ing/Internet/viewing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y access to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moting Literacy Display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ibrary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shmen library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brary scavenger hunt/College library vi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vide a wide variety of programming( speakers and authors visits, display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earch for colleges, scholarships and occup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ach students information literacy skills and technology skills through collaborative research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 equitable access to books and reading, to information, and to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k club/Book swap among students in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 specific services and materials for students who have special 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Library Wik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e Library and Class Wiki to facilitate student driven projects using Web 2.0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ghlight new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ind students of the activities in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sh book reviews by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oup/organzie links to useful online resources and web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tudent Volunte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ent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and recruit potential volu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ch students with tasks and provide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ents receive Service Learning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olve students in the process of book se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arent Eng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ent volunteers in the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-host Family Reading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ent Resource Center in the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ology workshops for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63640" y="2384280"/>
            <a:ext cx="7594560" cy="10447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Thanks!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i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ission of the Library Media Center is to ensure that students and staff are effective users of ideas, information and techn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7063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 an inviting environment that supports the curriculum and facilitates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 an organized, up-to-date collection, and technologies that support the curricul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 opportunities for collaboration with  teachers to integrate information literacy skills and technologies into the curricul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mote reading enjoyment and develop independent media users by providing intellectual and physical access to materials in all form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Objectives (Short Term Goal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end department meetings and share with teachers about research project ideas and evolving technolog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 with teachers in the implementation and assessme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research-based units that will require students to use multimedia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mote student awareness about copyright basics  and responsible use of ideas and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 library book circ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 hands-on technology training sessions to students, faculty and par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acher-Librarian Collab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ations the librarian makes before collaboration with a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common ground the teacher and the librarian sh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brarian considers what the teacher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brarian is adaptable to teacher's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brarian helps without dominating the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brarian finds out what the teacher means when he/she says "research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llabor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ing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the topic and what kinds of projects can be done? How can higher order thinking skills be incorporat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we want the students to know and do? What  Standards and Information Literacy Skills are address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resources does the library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technology skills should be incorpor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re the various levels of ability and learning styles which must be accommod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long do students have to do the assignment and how many days do the students need in the libra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ponsibilities (Who will teach what) and eval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sources Allo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diovis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icals and newspap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nt books and Referenc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olog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ectronic resources(databases, e-book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sources Acquis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 be aligned with Illinois State Learning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 support school curriculum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 support the educational needs of the administration, educators and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 follow CPS Collection Development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riteria for Selection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views from professional sources and and collection development/selection too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vey the needs and interests of students and teach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evance to the curricul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equacy of current hol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evance to professional grow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ology tools and resources necessary to comp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rtain research pro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87f2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pyright date/Copyright compli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02:51:20Z</dcterms:created>
  <dc:creator>knight knight</dc:creator>
  <dc:description/>
  <dc:language>en-US</dc:language>
  <cp:lastModifiedBy>Yamei</cp:lastModifiedBy>
  <dcterms:modified xsi:type="dcterms:W3CDTF">2011-07-12T22:25:53Z</dcterms:modified>
  <cp:revision>920</cp:revision>
  <dc:subject/>
  <dc:title>Library Media Center Mission</dc:title>
</cp:coreProperties>
</file>